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</a:rPr>
              <a:t>Click to move the slide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413DF-4120-48BF-9351-206E54CF053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7AA36-6F09-4B2B-8BF7-173CCE10B21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CAEEC-1E89-458D-8C79-85326C99A3C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4569B-9BA0-4BB2-9C52-999921E3007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5DBC1-FD4B-4E50-93C4-93BF8E916C2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06D0B-2715-4123-B3CA-0F924D1E08F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6A227-D057-4AAD-973E-AAA3D47710E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4798F-5CD0-47FC-854A-DB1198A9F7D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9F3FB-C8FC-4DDB-9D31-816A197A5F7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CD8BC-D18E-406D-B278-811CBE9B4FC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FECF0-7CD2-4BD9-82B6-3B6B1E1681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04920" y="40748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51B15-28E4-4438-A471-0F0EA2BA78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6320" y="1447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40748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6320" y="40748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F4909-6942-4579-9E39-859B232D73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2160" y="1447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79040" y="1447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04920" y="40748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2160" y="40748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79040" y="40748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88329-A345-44B7-9344-0821E4C2A2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04920" y="1447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C57E8-534E-4FB1-A89C-724BFBF4EF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93A1F-B3D2-4B03-923B-1CB4898867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6320" y="14479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9B038-B8A4-4F85-A2B8-E3C4466BBC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C5C4A-ADA4-4119-9F5F-7DA859FAB7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560" y="151920"/>
            <a:ext cx="7848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9955D-FF4E-4FBD-94A8-81FA367F1E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6320" y="14479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04920" y="40748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56E96-689D-4AEA-8677-5F7C2745AC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6320" y="1447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6320" y="40748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3CB53-6E85-474B-AAB4-B91D5D0CB5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6320" y="1447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4920" y="40748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6EE49-A2C0-414D-A146-E430842DA4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447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01000" y="624852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D4840-BDC0-4DBB-BA28-49AEB9859DDF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923240" y="0"/>
            <a:ext cx="1219320" cy="828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.jpeg"/><Relationship Id="rId3" Type="http://schemas.openxmlformats.org/officeDocument/2006/relationships/hyperlink" Target="http://www.worldofteaching.com/" TargetMode="External"/><Relationship Id="rId4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819520" y="6858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3cc"/>
                </a:solidFill>
                <a:latin typeface="Comic Sans MS"/>
              </a:rPr>
              <a:t>COAST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705720" y="304920"/>
            <a:ext cx="1066680" cy="104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C5974-9C1E-403D-9AE7-28287EAD465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859280" y="691920"/>
            <a:ext cx="3240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Comic Sans MS"/>
              </a:rPr>
              <a:t>arch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6" name=""/>
          <p:cNvSpPr/>
          <p:nvPr/>
        </p:nvSpPr>
        <p:spPr>
          <a:xfrm>
            <a:off x="3276720" y="2276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3311640" cy="441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C3371-0809-4FFF-9F0E-89388832F76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859280" y="691920"/>
            <a:ext cx="3240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Comic Sans MS"/>
              </a:rPr>
              <a:t>pillar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9" name=""/>
          <p:cNvSpPr/>
          <p:nvPr/>
        </p:nvSpPr>
        <p:spPr>
          <a:xfrm>
            <a:off x="3276720" y="2276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3311640" cy="441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CA36C-12AD-4055-8131-A6D9287DF20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859280" y="691920"/>
            <a:ext cx="3240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Comic Sans MS"/>
              </a:rPr>
              <a:t>stack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82" name=""/>
          <p:cNvSpPr/>
          <p:nvPr/>
        </p:nvSpPr>
        <p:spPr>
          <a:xfrm>
            <a:off x="3276720" y="2276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3311640" cy="441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69360-32CF-492F-9C52-8685F383F5B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59280" y="691920"/>
            <a:ext cx="3240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Comic Sans MS"/>
              </a:rPr>
              <a:t>stump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85" name=""/>
          <p:cNvSpPr/>
          <p:nvPr/>
        </p:nvSpPr>
        <p:spPr>
          <a:xfrm>
            <a:off x="3276720" y="2276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3311640" cy="4414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7F296-9028-4439-92E5-B358B5E7250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859280" y="691920"/>
            <a:ext cx="3240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Comic Sans MS"/>
              </a:rPr>
              <a:t>reef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276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3333600" cy="444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806FC-7A13-4010-89CE-60D6A5FB8C5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85840" y="151920"/>
            <a:ext cx="42670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cc"/>
                </a:solidFill>
                <a:latin typeface="Comic Sans MS"/>
              </a:rPr>
              <a:t>original photo</a:t>
            </a:r>
            <a:br>
              <a:rPr sz="4400"/>
            </a:br>
            <a:br>
              <a:rPr sz="2400"/>
            </a:b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33cc"/>
                </a:solidFill>
                <a:latin typeface="Comic Sans MS"/>
              </a:rPr>
              <a:t>http://www.leler.com/hawaii/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038120" y="2286000"/>
            <a:ext cx="49532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11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you remember the order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11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11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11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11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11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11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"/>
          <p:cNvSpPr/>
          <p:nvPr/>
        </p:nvSpPr>
        <p:spPr>
          <a:xfrm>
            <a:off x="5003640" y="2852640"/>
            <a:ext cx="324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3311640" cy="4413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636A0-7D03-40EB-B649-E46E8022A3D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Some examples</a:t>
            </a:r>
            <a:br>
              <a:rPr sz="3600"/>
            </a:b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Old Harry’s Rock</a:t>
            </a: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22226" r="0" b="0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E9A93-BE0D-49BF-B903-DAA4FEE0EA9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</a:rPr>
              <a:t>What happens next?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SzPct val="11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nce the rock has been eroded away from the cliff by abrasion and corrosion and hydraulic ac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SzPct val="11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pieces will be further broken down by attrition, becoming smoother and smaller over tim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SzPct val="11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me of it will be transported away and deposited somewhere el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SzPct val="11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roken rock ends up on beaches as sand or shingle (round pebble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6E334-C30D-411A-B9C3-977E309B07D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But beaches do not stay the same</a:t>
            </a: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st of the waves break on the beaches at an angl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me of the waves are </a:t>
            </a: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constructive,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which means they bring material from another place and leave it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se waves are low energy – quiet little waves that drop anything they are carrying as they brea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se make beaches bigg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2E435-C40B-4E1E-8E61-6F109B6E401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But beaches do not stay the same</a:t>
            </a: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me of the waves are </a:t>
            </a: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destructive,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which means that they break on the beach and as the water runs back, it drags part of the beach away with it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se waves are high energy – big waves that make more noise as they retreat, taking the sand and shingle with them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se make beaches small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6FC4F-D777-41C9-B5EC-891C1E51B80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What processes make coasts change shape?</a:t>
            </a: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267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ros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tri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bras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rros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ydraulic ac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24280" y="1447920"/>
            <a:ext cx="42674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ransport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action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ltation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spension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u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434340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SzPct val="11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7A704-911C-4198-850C-4039143C4D6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But beaches do not stay the same</a:t>
            </a: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me waves are a bit of both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is called longshore drif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18D72-FE62-4E15-B68A-2BAB15EDBD2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819520" y="6858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3cc"/>
                </a:solidFill>
                <a:latin typeface="Comic Sans MS"/>
              </a:rPr>
              <a:t>Longshore Drift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705720" y="304920"/>
            <a:ext cx="1066680" cy="10411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-77400" y="5562720"/>
            <a:ext cx="418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it </a:t>
            </a:r>
            <a:r>
              <a:rPr b="0" lang="en-US" sz="2400" spc="-1" strike="noStrike" u="sng">
                <a:solidFill>
                  <a:srgbClr val="0033cc"/>
                </a:solidFill>
                <a:uFillTx/>
                <a:latin typeface="Times New Roman"/>
                <a:hlinkClick r:id="rId3"/>
              </a:rPr>
              <a:t>www.worldofteaching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100’s of free power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D5C33-C1CB-41CA-9F02-95085F4E97B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78AAD-903A-4DD3-9B5B-C1D3310EB3F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1295280" y="3580920"/>
            <a:ext cx="60984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5D4AD-B566-4E47-9478-295C2CFC28C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295280" y="3200040"/>
            <a:ext cx="13716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5E978-8BA4-4636-AFE6-A27044F95CC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2E5D3-6821-410B-A955-2C2C0BB9546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95280" y="3809880"/>
            <a:ext cx="16380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D9C37-4351-4BE0-A06A-9CEB61D485A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52480" y="3581280"/>
            <a:ext cx="16380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22B12-75E3-46DF-A3B2-D9042478BBE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362320" y="32767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DEF5A-CAA0-4122-B68E-23D652A9270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971800" y="297180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0D336-8F22-4F05-B570-1613FD6211C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</a:rPr>
              <a:t>Erosion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w easily a coast is eroded depends on how hard the rock 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7" name="sea2" descr=""/>
          <p:cNvPicPr/>
          <p:nvPr/>
        </p:nvPicPr>
        <p:blipFill>
          <a:blip r:embed="rId1"/>
          <a:stretch/>
        </p:blipFill>
        <p:spPr>
          <a:xfrm>
            <a:off x="1371600" y="2438280"/>
            <a:ext cx="6095880" cy="422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FD62E-6E4E-4864-8808-46AB051C112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00400" y="28954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57178-00E0-410E-BDE2-357B0997D4C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00400" y="28954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3276360" y="3048120"/>
            <a:ext cx="7596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E0139-2A78-4735-B044-FAE6C8D4090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00400" y="28954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86280" y="3048120"/>
            <a:ext cx="266400" cy="693720"/>
          </a:xfrm>
          <a:custGeom>
            <a:avLst/>
            <a:gdLst/>
            <a:ahLst/>
            <a:rect l="l" t="t" r="r" b="b"/>
            <a:pathLst>
              <a:path w="168" h="437">
                <a:moveTo>
                  <a:pt x="168" y="0"/>
                </a:moveTo>
                <a:lnTo>
                  <a:pt x="0" y="43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F4B04-D19C-44CD-8162-E01D8824984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200400" y="28954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28747-F7DC-490E-8A62-7E94FDF2A2E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200400" y="31240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259B8-32C9-4012-9838-C89B41E43F6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895480" y="3733920"/>
            <a:ext cx="16380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A8A01-3A0C-4DD3-9F71-818FBFB9FD8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819520" y="39625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294D7-3440-4137-B488-245B212B1ED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819520" y="39625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124080" y="3746520"/>
            <a:ext cx="273240" cy="139680"/>
          </a:xfrm>
          <a:custGeom>
            <a:avLst/>
            <a:gdLst/>
            <a:ahLst/>
            <a:rect l="l" t="t" r="r" b="b"/>
            <a:pathLst>
              <a:path w="172" h="88">
                <a:moveTo>
                  <a:pt x="0" y="88"/>
                </a:moveTo>
                <a:lnTo>
                  <a:pt x="17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F2A19-037F-4771-82E3-D5562AACF4E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819520" y="39625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124080" y="3581280"/>
            <a:ext cx="596880" cy="304920"/>
          </a:xfrm>
          <a:custGeom>
            <a:avLst/>
            <a:gdLst/>
            <a:ahLst/>
            <a:rect l="l" t="t" r="r" b="b"/>
            <a:pathLst>
              <a:path w="376" h="192">
                <a:moveTo>
                  <a:pt x="0" y="192"/>
                </a:moveTo>
                <a:lnTo>
                  <a:pt x="37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0F231-FF3E-4ABB-A685-5FF5CF3DCC1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819520" y="39625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43187-AC12-4892-B66C-51754BA92CC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</a:rPr>
              <a:t>How cliffs are eroded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4267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cc"/>
              </a:buClr>
              <a:buSzPct val="11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tougher rocks of the headlands are gradually eroded away by all the methods of erosion and gradually a small ‘</a:t>
            </a:r>
            <a:r>
              <a:rPr b="1" lang="en-US" sz="2800" spc="-1" strike="noStrike">
                <a:solidFill>
                  <a:srgbClr val="0033cc"/>
                </a:solidFill>
                <a:latin typeface="Comic Sans MS"/>
              </a:rPr>
              <a:t>Wave-cut notch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’ is made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0033cc"/>
              </a:buClr>
              <a:buSzPct val="11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 it gets bigger, the overhanging rock will eventually tumble into the se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0" name="sea4" descr=""/>
          <p:cNvPicPr/>
          <p:nvPr/>
        </p:nvPicPr>
        <p:blipFill>
          <a:blip r:embed="rId1"/>
          <a:stretch/>
        </p:blipFill>
        <p:spPr>
          <a:xfrm>
            <a:off x="4800600" y="1523880"/>
            <a:ext cx="3886200" cy="2975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7DFB4-AC35-42B4-B473-B8BB40AFF5E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895480" y="3886200"/>
            <a:ext cx="16380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88128-0622-4E90-A85B-6CDFA518B5B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895480" y="3886200"/>
            <a:ext cx="16380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DB0C1-6EED-409C-8EF4-E294C89E58D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505320" y="35812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7BA4D-1DF5-4DFF-85F9-37246E38172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114800" y="32767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C13BF-E80A-40AA-9A64-F5A7651D2FF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267080" y="3200400"/>
            <a:ext cx="16380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03E23-7557-479B-A874-54AEA4E4741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419720" y="31240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49280" y="3276720"/>
            <a:ext cx="21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Groyne traps sedi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572000" y="3124080"/>
            <a:ext cx="1028880" cy="133560"/>
          </a:xfrm>
          <a:custGeom>
            <a:avLst/>
            <a:gdLst/>
            <a:ahLst/>
            <a:rect l="l" t="t" r="r" b="b"/>
            <a:pathLst>
              <a:path w="648" h="84">
                <a:moveTo>
                  <a:pt x="648" y="84"/>
                </a:moveTo>
                <a:lnTo>
                  <a:pt x="460" y="32"/>
                </a:lnTo>
                <a:lnTo>
                  <a:pt x="324" y="12"/>
                </a:lnTo>
                <a:lnTo>
                  <a:pt x="216" y="0"/>
                </a:lnTo>
                <a:lnTo>
                  <a:pt x="184" y="0"/>
                </a:lnTo>
                <a:lnTo>
                  <a:pt x="108" y="12"/>
                </a:lnTo>
                <a:lnTo>
                  <a:pt x="0" y="36"/>
                </a:ln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863680" y="2514600"/>
            <a:ext cx="194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uild up of sedi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against the groy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2362320"/>
            <a:ext cx="577800" cy="691920"/>
          </a:xfrm>
          <a:custGeom>
            <a:avLst/>
            <a:gdLst/>
            <a:ahLst/>
            <a:rect l="l" t="t" r="r" b="b"/>
            <a:pathLst>
              <a:path w="364" h="436">
                <a:moveTo>
                  <a:pt x="364" y="436"/>
                </a:moveTo>
                <a:lnTo>
                  <a:pt x="248" y="352"/>
                </a:lnTo>
                <a:lnTo>
                  <a:pt x="148" y="268"/>
                </a:lnTo>
                <a:lnTo>
                  <a:pt x="64" y="152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152280" y="228600"/>
            <a:ext cx="1067040" cy="1041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5641C-7CFC-457A-82CB-697F78DBC37D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What can happen with longshore drift?</a:t>
            </a: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4572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SzPct val="11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sand and shingle are dragged down the coast from the NW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SzPct val="11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blue line shows a shingle ban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SzPct val="11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t continued across the gap between the main land and the island to form a </a:t>
            </a:r>
            <a:r>
              <a:rPr b="1" lang="en-GB" sz="3200" spc="-1" strike="noStrike">
                <a:solidFill>
                  <a:srgbClr val="0033cc"/>
                </a:solidFill>
                <a:latin typeface="Comic Sans MS"/>
              </a:rPr>
              <a:t>tombolo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5181480" y="1371600"/>
            <a:ext cx="3962520" cy="385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54A5D-D02F-44E2-A9C1-4A9EBCF63101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What can happen with longshore drift?</a:t>
            </a: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11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GB" sz="2800" spc="-1" strike="noStrike">
                <a:solidFill>
                  <a:srgbClr val="0033cc"/>
                </a:solidFill>
                <a:latin typeface="Comic Sans MS"/>
              </a:rPr>
              <a:t>tombol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s rar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11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is sand split is a more common feat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1828800" y="2255760"/>
            <a:ext cx="5334120" cy="4402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71D1F-C379-49DE-814B-C845564A49EF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</a:rPr>
              <a:t>How cliffs are eroded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4800240"/>
            <a:ext cx="86104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cc"/>
              </a:buClr>
              <a:buSzPct val="11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ver time the cliff retreats leaving a </a:t>
            </a:r>
            <a:r>
              <a:rPr b="1" lang="en-GB" sz="2400" spc="-1" strike="noStrike">
                <a:solidFill>
                  <a:srgbClr val="0033cc"/>
                </a:solidFill>
                <a:latin typeface="Comic Sans MS"/>
              </a:rPr>
              <a:t>wave-cut platform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just below the surface, that show when the tide is ou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SzPct val="11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is is in Dorset near Purbeck at Kimmeridge Ba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676520" y="838080"/>
            <a:ext cx="5943600" cy="392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88643-E149-4807-BBA2-B21AB5EA8D0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There are some special coastal features</a:t>
            </a: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se form where chalk or limestone form the hard band of rock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re the erosion is help by solution or corrosion. If the water is slightly acid, then the calcium carbonate that makes up these rocks  will dissolve slowl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rocks were laid down millions of years ago in a warm sea and are made mostly of the shells of mollusc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B9A01-3B1D-47BA-8345-99EB7B4CC14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859280" y="691920"/>
            <a:ext cx="3240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Comic Sans MS"/>
              </a:rPr>
              <a:t>cliff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7" name=""/>
          <p:cNvSpPr/>
          <p:nvPr/>
        </p:nvSpPr>
        <p:spPr>
          <a:xfrm>
            <a:off x="3276720" y="2276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3311640" cy="441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72084-F359-43B7-937B-2BFCDD92FDA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859280" y="691920"/>
            <a:ext cx="3240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Comic Sans MS"/>
              </a:rPr>
              <a:t>crack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276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3311640" cy="441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59125-00FE-4A30-B705-CB4FA35087C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859280" y="691920"/>
            <a:ext cx="3240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Comic Sans MS"/>
              </a:rPr>
              <a:t>cave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3" name=""/>
          <p:cNvSpPr/>
          <p:nvPr/>
        </p:nvSpPr>
        <p:spPr>
          <a:xfrm>
            <a:off x="3276720" y="2276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3311640" cy="4414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5CAC9-5796-4AC3-ACFE-64DC5861F15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2T07:47:07Z</dcterms:created>
  <dc:creator>Tom </dc:creator>
  <dc:description/>
  <dc:language>en-US</dc:language>
  <cp:lastModifiedBy>Lindy</cp:lastModifiedBy>
  <dcterms:modified xsi:type="dcterms:W3CDTF">2010-01-29T00:02:33Z</dcterms:modified>
  <cp:revision>24</cp:revision>
  <dc:subject/>
  <dc:title>Longshore</dc:title>
</cp:coreProperties>
</file>